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CC14-45F1-4E6E-9864-88EF62A75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00DA-020E-4A67-9163-243C2A17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4346-54DB-4CC4-AF7C-60E955DFC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05BA-7CD2-409B-9DE6-2F3AAFD67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1BBD-B3A7-423C-899F-4CDA17575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A6C6-6E8B-49C8-AD38-9FAD6E2A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E29E3-7CCD-4D60-935E-D1142630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0D97-AD0E-4EB8-9899-DEDE3F00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8F85-53FE-479C-951F-E3421732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404F-C31E-4B19-9C3C-102DF4C2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BD4E-C074-4628-AA26-5AF10479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509B-97EE-4BFE-A8BE-B00C4B39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0567-234A-47CF-8A6F-32F52F01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F8B7-E9FC-462B-999C-17EF4241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27B1A-3818-405A-A2CC-2B393C60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6F6B-70EC-425A-8C37-B4B29C3BE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0090-93F2-48BC-A66D-FF599167C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E8CD-2C0B-41A2-8B32-EADB80E6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9B63-4871-4458-A0E2-EE7317BC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E3F7-5776-4F7E-AFC9-9E621BCF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E0A6-EE1A-4FEE-B784-9DE8D2A1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0FDB-9D7B-4E8C-B0CF-7F859EE5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CBD5-CC9F-4FA0-830C-98C048A3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4C36-2316-4D6C-8F19-FFAC0407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44CF-6AD3-4843-9D5A-45DC7A2F69D0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A822-8B87-49FB-BC32-C7CE9641526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istoryteacher.net/USProjects/USQuizzes/BritEmpire2.htm" TargetMode="External"/><Relationship Id="rId2" Type="http://schemas.openxmlformats.org/officeDocument/2006/relationships/hyperlink" Target="http://www.historyteacher.net/USProjects/USQuizzes/Constitution2.htm" TargetMode="External"/><Relationship Id="rId3" Type="http://schemas.openxmlformats.org/officeDocument/2006/relationships/hyperlink" Target="http://www.historyteacher.net/USProjects/USQuizzes/Jackson2.htm" TargetMode="External"/><Relationship Id="rId4" Type="http://schemas.openxmlformats.org/officeDocument/2006/relationships/hyperlink" Target="http://www.historyteacher.net/USProjects/USQuizzes/ManifestDestiny2.htm" TargetMode="External"/><Relationship Id="rId5" Type="http://schemas.openxmlformats.org/officeDocument/2006/relationships/hyperlink" Target="http://www.historyteacher.net/USProjects/USQuizzes/GrowingCrisis1.htm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ractice Ques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Quizz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America &amp; the British Empir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66640" indent="-56664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Constitu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66640" indent="-56664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Jeffersonia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66640" indent="-56664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Jacks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66640" indent="-56664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99"/>
                </a:solidFill>
                <a:uFillTx/>
                <a:latin typeface="Arial Black"/>
                <a:hlinkClick r:id="rId4"/>
              </a:rPr>
              <a:t>Westward Expansionism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66640" indent="-56664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99"/>
                </a:solidFill>
                <a:uFillTx/>
                <a:latin typeface="Arial Black"/>
                <a:hlinkClick r:id="rId5"/>
              </a:rPr>
              <a:t>Growing Crisi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66640" indent="-56664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ivil Wa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66640" indent="-56664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Reconstruc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8T15:09:21Z</dcterms:created>
  <dc:creator>School District U46</dc:creator>
  <dc:description/>
  <dc:language>en-US</dc:language>
  <cp:lastModifiedBy>School District U46</cp:lastModifiedBy>
  <dcterms:modified xsi:type="dcterms:W3CDTF">2011-01-11T14:00:30Z</dcterms:modified>
  <cp:revision>3</cp:revision>
  <dc:subject/>
  <dc:title>Practice Questions</dc:title>
</cp:coreProperties>
</file>